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80C08-8419-453C-8DBF-8C0828D03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7FD11-B8A5-4748-9B6F-2D627A499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F7987-2921-4B93-8316-B1CB6A101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E61F0-030A-4568-9525-A36F67B19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456FC-02DF-4635-8AB8-A3925AF96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C4AEA-1049-4C53-857C-612AA38E3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56582-8938-4A89-BB94-9ACE040B0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EFCF3-EB5D-4EC7-94C1-B834010A6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DCCC6-4A86-44B7-B38F-7E3F52B11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62D15-039C-4BA8-86A2-397190A45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74E74-96C9-4082-806B-3DD30D02C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96807-842B-4262-A4CE-975D15DD5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7B61C-63B9-42F6-BD89-8DDAEF992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2F01-4F6C-4176-AEF9-B7ECBC6E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5838-BC77-4049-AE4F-E945A4F3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C479-3835-4BB6-9E6B-B9715CFC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C5EF-5BB8-4B3B-9892-4246FF08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05A3-19F7-4D7C-B9F6-29EA2925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FA1B-A375-4834-B5E0-23DA9487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BF0-D296-445B-A34B-A72D4D99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3220-6EA5-474A-8702-180491C5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497E-7B26-487C-AC78-AC25C4F9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4726-3C4A-4DD6-B5A3-DECEF67E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43CE-F65E-45EB-B26F-3A6F4D09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A0D3-FCC4-4DBF-977D-D6A84B7C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512EC-0DC9-4654-806B-06D48CE9B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44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 “Isms”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umber a piece of paper 1-9.  As you see numbered definitions appear on the screen, record the “ism” that corresponds with that defin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ystem in which the means of production (like factories and farms) and wealth are publicly owned and controlled by the govern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can be implemented completely or partial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Liber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Totalitari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Fasc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Commun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Isolatio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 Imper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 Naz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 Nat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 Soc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Do any of these terms seem ideologically opposed to each other?  Which 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Which of these terms seem ideologically similar to each oth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Which of these ideas, if any, do you identify with?  Why do you identify with them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A political system that values democracy, individual rights, privately-owned property, and free market capitalis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Government control over all aspects of public and private life.  Power is held by just one ruling party or group and they push the country towards a specific ideolog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70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olitical movement that promotes an extreme form of nationalism, a denial of individual rights, and dictatorial one-party ru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system tries to eliminate anything that “weakens the stat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ly, it’s a socialist society that exists without a central govern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has never actually existed on a large scal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typically ends up with a totalitarian state that implements a socialist econom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A policy of avoiding political or military involvement with other countri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a stronger country or empire controls a weaker territory in order to exert political, economic, and/or social infl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The Fascist policies of the National Socialist German Worker’s par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Based 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079640" indent="-216000">
              <a:lnSpc>
                <a:spcPct val="93000"/>
              </a:lnSpc>
              <a:buClr>
                <a:srgbClr val="00000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Arial Unicode MS"/>
              </a:rPr>
              <a:t>totalitarian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079640" indent="-216000">
              <a:lnSpc>
                <a:spcPct val="93000"/>
              </a:lnSpc>
              <a:buClr>
                <a:srgbClr val="00000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Arial Unicode MS"/>
              </a:rPr>
              <a:t>aggressive expan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079640" indent="-216000">
              <a:lnSpc>
                <a:spcPct val="93000"/>
              </a:lnSpc>
              <a:buClr>
                <a:srgbClr val="00000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Arial Unicode MS"/>
              </a:rPr>
              <a:t>Aryan racial superio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#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the people living in a particular region and sharing certain cultural characteristics have a common 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dea drives people to act in the interest of their perceived nation, and sometimes to think less of those belonging to other national cul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drives people of a common ethnic group to seek self-rule in their own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23:29:05Z</dcterms:created>
  <dc:creator>Suzanne</dc:creator>
  <dc:description/>
  <dc:language>en-US</dc:language>
  <cp:lastModifiedBy>Suzanne</cp:lastModifiedBy>
  <dcterms:modified xsi:type="dcterms:W3CDTF">2013-12-10T15:37:28Z</dcterms:modified>
  <cp:revision>1</cp:revision>
  <dc:subject/>
  <dc:title>20th Century “Isms” Review</dc:title>
</cp:coreProperties>
</file>